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2794320" y="8643960"/>
            <a:ext cx="127116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1200" spc="-1" strike="noStrike">
                <a:solidFill>
                  <a:srgbClr val="39536b"/>
                </a:solidFill>
                <a:latin typeface="Arial"/>
              </a:rPr>
              <a:t>Page </a:t>
            </a:r>
            <a:fld id="{1288A15B-6D61-451E-B686-7FBBD578AD03}" type="slidenum">
              <a:rPr b="0" lang="en-US" sz="12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66400" y="685800"/>
            <a:ext cx="4522680" cy="339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5840" y="4863960"/>
            <a:ext cx="5026320" cy="3532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7160" bIns="4716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522680" cy="33926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5840" y="4863960"/>
            <a:ext cx="5026320" cy="3532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7160" bIns="4716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especially useful to show aggregate data from a few classes in especially the early days in the course as you may have fewer data po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tructor can look at this chart and advise students not to over-engineer for example if such trend is appar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it may seem obvious, the instructor should also note that this sampling is from the 8-program version of the PSP Cou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522680" cy="33926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5840" y="4863960"/>
            <a:ext cx="5026320" cy="3532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7160" bIns="4716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slide 6, this chart depicts data from close to 40 stud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934200" y="6566040"/>
            <a:ext cx="2307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2010 by 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056480" y="6567480"/>
            <a:ext cx="11131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December 2010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62752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T - Introduction - page </a:t>
            </a:r>
            <a:fld id="{7B048F36-ADFA-4189-9C18-740EBC312633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11" descr=""/>
          <p:cNvPicPr/>
          <p:nvPr/>
        </p:nvPicPr>
        <p:blipFill>
          <a:blip r:embed="rId2"/>
          <a:stretch/>
        </p:blipFill>
        <p:spPr>
          <a:xfrm>
            <a:off x="173160" y="233280"/>
            <a:ext cx="3476520" cy="48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1058760" y="5087880"/>
            <a:ext cx="7313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10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4061520" y="6567480"/>
            <a:ext cx="11131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December 2010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562752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PSP IT - Introduction - page </a:t>
            </a:r>
            <a:fld id="{D28C2906-3672-4DE6-BA79-22F4CF70946D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9694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8" name="Picture 12" descr=""/>
          <p:cNvPicPr/>
          <p:nvPr/>
        </p:nvPicPr>
        <p:blipFill>
          <a:blip r:embed="rId2"/>
          <a:stretch/>
        </p:blipFill>
        <p:spPr>
          <a:xfrm>
            <a:off x="173160" y="216000"/>
            <a:ext cx="3476520" cy="484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1025640" y="1752480"/>
            <a:ext cx="6553080" cy="27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536b"/>
                </a:solidFill>
                <a:latin typeface="Arial Narrow"/>
              </a:rPr>
              <a:t>PSP Instructor Training</a:t>
            </a:r>
            <a:endParaRPr b="0" lang="en-US" sz="2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9536b"/>
                </a:solidFill>
                <a:latin typeface="Arial Narrow"/>
              </a:rPr>
              <a:t>Lecture: PSP0 Data Presentation</a:t>
            </a: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ime Estimating Accuracy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bjective: balanced estimates (about as many over as under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ide individual vari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itial estimates are made with no historical data or defined estimating proce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dividual errors of plus or minus 20 to 40% are normal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mposite is generally quite accurate in spite of individual variations (which is why teams can produce accurate estimates)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3" descr=""/>
          <p:cNvPicPr/>
          <p:nvPr/>
        </p:nvPicPr>
        <p:blipFill>
          <a:blip r:embed="rId1"/>
          <a:srcRect l="1552" t="21159" r="1654" b="12174"/>
          <a:stretch/>
        </p:blipFill>
        <p:spPr>
          <a:xfrm>
            <a:off x="558720" y="952560"/>
            <a:ext cx="8155080" cy="54306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2"/>
          <p:cNvSpPr/>
          <p:nvPr/>
        </p:nvSpPr>
        <p:spPr>
          <a:xfrm>
            <a:off x="2678040" y="1405080"/>
            <a:ext cx="52167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9160" indent="-119160"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green line is the 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class composite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(sum act time – sum est time)/sum est tim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119160" indent="-119160"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119160" indent="-119160"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t is noteworthy that the gap between min and max get narrower over tim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9040" y="91260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esign Time Rang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bjective: Plant the idea that time must be spent upfront for doing a proper desig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ide individual variation initiall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ore emphasis is placed on design with each additional lectur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 the end of the course seeing up to 4 times more time spent in design is comm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C:\DOCUME~1\snurhan\LOCALS~1\Temp\msohtml1\01\clip_image001.gif"/>
          <p:cNvPicPr/>
          <p:nvPr/>
        </p:nvPicPr>
        <p:blipFill>
          <a:blip r:embed="rId1"/>
          <a:stretch/>
        </p:blipFill>
        <p:spPr>
          <a:xfrm>
            <a:off x="355680" y="1100160"/>
            <a:ext cx="8485200" cy="5257800"/>
          </a:xfrm>
          <a:prstGeom prst="rect">
            <a:avLst/>
          </a:prstGeom>
          <a:ln w="0">
            <a:noFill/>
          </a:ln>
        </p:spPr>
      </p:pic>
      <p:sp>
        <p:nvSpPr>
          <p:cNvPr id="120" name="TextBox 2"/>
          <p:cNvSpPr/>
          <p:nvPr/>
        </p:nvSpPr>
        <p:spPr>
          <a:xfrm>
            <a:off x="981000" y="1660680"/>
            <a:ext cx="4854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9160" indent="-119160"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fter design templates and design verification techniques are introduced, more time being spent in design is observed!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17720" y="882360"/>
            <a:ext cx="79833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ercentage of Time Spent in Compil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28520" y="207612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bjective: reduce compile tim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arly indicator of process quality (or a slow compiler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ote that compilers don’t catch every defect;</a:t>
            </a:r>
            <a:br>
              <a:rPr sz="2200"/>
            </a:b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~ 9% of C++ syntax defects slip through the compiler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1"/>
          <a:srcRect l="1415" t="20965" r="1759" b="12190"/>
          <a:stretch/>
        </p:blipFill>
        <p:spPr>
          <a:xfrm>
            <a:off x="558720" y="952560"/>
            <a:ext cx="8155080" cy="5443560"/>
          </a:xfrm>
          <a:prstGeom prst="rect">
            <a:avLst/>
          </a:prstGeom>
          <a:ln w="0">
            <a:noFill/>
          </a:ln>
        </p:spPr>
      </p:pic>
      <p:sp>
        <p:nvSpPr>
          <p:cNvPr id="124" name="TextBox 2"/>
          <p:cNvSpPr/>
          <p:nvPr/>
        </p:nvSpPr>
        <p:spPr>
          <a:xfrm>
            <a:off x="3295800" y="1398600"/>
            <a:ext cx="4854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 indent="-168120"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Blue line indicates data for those students who do not use a compiler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168120" indent="-168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168120" indent="-168120"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t is noteworthy that the gap between min and max get much narrower over tim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168120" indent="-168120"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168120" indent="-168120"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t the end of the course, the max data point is lower than the beginning averag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ercentage of Time Spent in Tes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bjective: reduce test tim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arly indicator of process qualit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cts take time to find and fix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dditional analysi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jection phase by removal time: what kinds of errors are most costly to remov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rror type by removal time: what type of errors are most costly to remov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7" descr=""/>
          <p:cNvPicPr/>
          <p:nvPr/>
        </p:nvPicPr>
        <p:blipFill>
          <a:blip r:embed="rId1"/>
          <a:stretch/>
        </p:blipFill>
        <p:spPr>
          <a:xfrm>
            <a:off x="544680" y="932040"/>
            <a:ext cx="8169120" cy="5462280"/>
          </a:xfrm>
          <a:prstGeom prst="rect">
            <a:avLst/>
          </a:prstGeom>
          <a:ln w="0">
            <a:noFill/>
          </a:ln>
        </p:spPr>
      </p:pic>
      <p:sp>
        <p:nvSpPr>
          <p:cNvPr id="128" name="TextBox 2"/>
          <p:cNvSpPr/>
          <p:nvPr/>
        </p:nvSpPr>
        <p:spPr>
          <a:xfrm>
            <a:off x="3121200" y="1398600"/>
            <a:ext cx="4854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 indent="-168120"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verage is usually between 25 to 35 percent at the start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168120" indent="-168120"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verage is usually between 10 to 20 percent by the end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ize Rang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bjective: quality of process and quality of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ide vari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either extreme is good or ba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ypical causes includ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ver-engineering a solu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ack of experience with the programming languag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rcRect l="1345" t="20965" r="1654" b="12085"/>
          <a:stretch/>
        </p:blipFill>
        <p:spPr>
          <a:xfrm>
            <a:off x="558720" y="952560"/>
            <a:ext cx="815508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000" spc="-1" strike="noStrike">
              <a:solidFill>
                <a:srgbClr val="39536b"/>
              </a:solidFill>
              <a:latin typeface="Arial"/>
              <a:ea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             </a:t>
            </a:r>
            <a:br>
              <a:rPr sz="1800"/>
            </a:b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97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ize Estimating Accuracy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Objective: balanced estimates (about as many over as under)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Wide individual variation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nitial estimates are made with no historical data or defined estimating proces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ndividual errors of plus or minus 20 to 40 % are normal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omposite is generally quite accurate, in spite of individual variation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tudents should focus on personal improvement and not on comparison to other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ccuracy may start improving after the introduction of PROB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rcRect l="1482" t="21070" r="1759" b="12085"/>
          <a:stretch/>
        </p:blipFill>
        <p:spPr>
          <a:xfrm>
            <a:off x="558720" y="952560"/>
            <a:ext cx="8155080" cy="5446800"/>
          </a:xfrm>
          <a:prstGeom prst="rect">
            <a:avLst/>
          </a:prstGeom>
          <a:ln w="0">
            <a:noFill/>
          </a:ln>
        </p:spPr>
      </p:pic>
      <p:sp>
        <p:nvSpPr>
          <p:cNvPr id="135" name="TextBox 2"/>
          <p:cNvSpPr/>
          <p:nvPr/>
        </p:nvSpPr>
        <p:spPr>
          <a:xfrm>
            <a:off x="2786040" y="1414440"/>
            <a:ext cx="5216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9160" indent="-119160"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green line is the 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class composite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(sum act size – sum est size)/sum est siz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119160" indent="-119160"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119160" indent="-119160"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t is noteworthy that the gap between min and max get narrower over tim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ssages to Rememb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PSP0 the students learn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a defined proces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ather accurate time and defect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ine size measur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ccurately measure siz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ke simple time and size estimat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se basic skills are critical to a student’s success and must be practiced to be understood and master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ecture Objectiv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lecture will help you to understand the data analysis at the PSP0 level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General Guidelin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ass data helps to convince students that using the PSP methods will help them to do better work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ass data can be used as a benchmark to help show what is possibl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y to present class data every day if possible, but make sure there is enough data so that an individual’s performance is not visibl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 the end of the class, give the students copies of a final set of the overall class performanc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04960" y="890280"/>
            <a:ext cx="804528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0 Data Presentat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17360" y="157788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411480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tart presenting class data when you have program 1 data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411480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411480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resent composite data if you have several data points, otherwise  you may want to use your personal data as an exampl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411480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411480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Respect the privacy of student data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411480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411480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resent the following charts: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411480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ssignments per program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fter program 1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411480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evelopment time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  <a:ea typeface="Arial"/>
              </a:rPr>
              <a:t>"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411480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ime estimating accuracy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  <a:ea typeface="Arial"/>
              </a:rPr>
              <a:t>"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411480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% time spent in design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  <a:ea typeface="Arial"/>
              </a:rPr>
              <a:t>"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411480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% time spent in compile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  <a:ea typeface="Arial"/>
              </a:rPr>
              <a:t>"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411480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% time spent in test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  <a:ea typeface="Arial"/>
              </a:rPr>
              <a:t>"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411480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ize range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fter program 2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411480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ize estimating accuracy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  <a:ea typeface="Arial"/>
              </a:rPr>
              <a:t>"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Assignments per Program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bjective: understand class statu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see how many data points there are at each assignme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only a couple of students finished the latest assignment, don’t share their data as it may reveal individual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mphasize quality over schedule, i.e. do it right the first tim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" descr=""/>
          <p:cNvPicPr/>
          <p:nvPr/>
        </p:nvPicPr>
        <p:blipFill>
          <a:blip r:embed="rId1"/>
          <a:srcRect l="1552" t="21034" r="1775" b="12122"/>
          <a:stretch/>
        </p:blipFill>
        <p:spPr>
          <a:xfrm>
            <a:off x="588960" y="1041480"/>
            <a:ext cx="8177040" cy="5467320"/>
          </a:xfrm>
          <a:prstGeom prst="rect">
            <a:avLst/>
          </a:prstGeom>
          <a:ln w="0">
            <a:noFill/>
          </a:ln>
        </p:spPr>
      </p:pic>
      <p:sp>
        <p:nvSpPr>
          <p:cNvPr id="108" name="TextBox 2"/>
          <p:cNvSpPr/>
          <p:nvPr/>
        </p:nvSpPr>
        <p:spPr>
          <a:xfrm>
            <a:off x="5722920" y="1562040"/>
            <a:ext cx="28576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is chart depicts aggregate data from a few classe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t gives a good sampling as to how timely the class is submitting assignments as a whol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Actual Development Tim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bjective: quality of process and quality of data (trend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ide vari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either extreme is good or ba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ypical causes includ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ver-engineering a solu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ack of experience with the programming languag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ack of experience with the environ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3" descr=""/>
          <p:cNvPicPr/>
          <p:nvPr/>
        </p:nvPicPr>
        <p:blipFill>
          <a:blip r:embed="rId1"/>
          <a:srcRect l="1431" t="21018" r="1669" b="12105"/>
          <a:stretch/>
        </p:blipFill>
        <p:spPr>
          <a:xfrm>
            <a:off x="558720" y="952560"/>
            <a:ext cx="8155080" cy="54417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3"/>
          <p:cNvSpPr/>
          <p:nvPr/>
        </p:nvSpPr>
        <p:spPr>
          <a:xfrm>
            <a:off x="3043080" y="1450800"/>
            <a:ext cx="48546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9160" indent="-119160"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complexity and possible over-engineering of the LOC counter is apparent in Program2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119160" indent="-119160"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119160" indent="-119160"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While it takes about 4 hours to complete an assignment during the first week, the second week can come close to doubling that amount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8:48:08Z</dcterms:created>
  <dc:creator>Computing Facilities</dc:creator>
  <dc:description/>
  <dc:language>en-US</dc:language>
  <cp:lastModifiedBy>wrn_loc_adm</cp:lastModifiedBy>
  <cp:lastPrinted>1999-10-25T14:04:56Z</cp:lastPrinted>
  <dcterms:modified xsi:type="dcterms:W3CDTF">2018-09-06T01:08:12Z</dcterms:modified>
  <cp:revision>211</cp:revision>
  <dc:subject/>
  <dc:title>No Slide Title</dc:title>
</cp:coreProperties>
</file>